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F22-6543-4D53-947B-F729B44F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092-80C4-4F4C-A91C-70CB091F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499-6B54-4303-BB77-A61FACF2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478-B78F-46D3-884C-231523FB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49C1-221E-425C-8A76-AB498DDC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542-BA6A-41D5-811F-EA726600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57B-91BB-401B-8E35-E6838D45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61AE-29EA-47E3-AD57-86D29455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961F-FD24-454D-901E-44912027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21C-97D5-48CA-980C-9B8422B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9FA7-EC82-4D68-9CD2-0742FB7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DD4-64A6-433E-BDDB-6C5CB2E8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2869-DF6D-4DBA-9722-131F07B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B085-4DEB-45E5-BA46-CD362CA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BBCC-4925-433A-A41B-48105178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4C0F-54C2-4AE2-8A21-7215EC5B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81F5-19BD-471D-838F-1F5636F7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1175-274B-4395-BB51-9FF8DB92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7579-0FAD-42A2-9312-4EB434A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C446-AEC6-4717-BD60-A0C9669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5F5B-4884-436C-9AAA-CC74F9EA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67D7-ABBA-4379-B332-6EB26D3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ABB-2574-453C-AF0F-B6637E4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211F-0DA0-4960-B43E-5B395A0D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880E-7774-4311-AB99-1AA1FCF1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CB3E-0462-4231-BF56-F5A7DD1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D821-2253-43BA-A1DE-ACB3AB6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A0B5-7D64-448E-A5BE-0B96706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171B-446C-4D44-A751-868FD17C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17FE-C9D9-4B26-8F2C-6CF3E8DE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2B1-3A1E-487B-88A7-99013113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DA8-2AE7-4890-AA82-826CB38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1DF-1C8F-4257-B8AF-F6C7116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F27-511F-49E6-895E-A48FA5A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093-9078-439D-8E5A-19C1C11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A3F-178E-4C40-B555-BFD5C11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B4F-C3E2-49D9-9927-7F466401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04A-123B-46CC-B9BD-4E43163032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ECC-E22F-41EA-A000-E336A61B13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360" y="1125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9900ff"/>
                </a:solidFill>
                <a:latin typeface="Bradley Hand ITC"/>
              </a:rPr>
              <a:t>Room 8’s</a:t>
            </a:r>
            <a:br>
              <a:rPr sz="6600"/>
            </a:br>
            <a:r>
              <a:rPr b="1" lang="en-NZ" sz="6600" spc="-1" strike="noStrike">
                <a:solidFill>
                  <a:srgbClr val="9900ff"/>
                </a:solidFill>
                <a:latin typeface="Bradley Hand ITC"/>
              </a:rPr>
              <a:t>Comic Life of</a:t>
            </a:r>
            <a:br>
              <a:rPr sz="6600"/>
            </a:br>
            <a:r>
              <a:rPr b="1" lang="en-NZ" sz="6600" spc="-1" strike="noStrike">
                <a:solidFill>
                  <a:srgbClr val="9900ff"/>
                </a:solidFill>
                <a:latin typeface="Bradley Hand ITC"/>
              </a:rPr>
              <a:t>Famous People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5128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132080" cy="683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56080" cy="677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3:20:02Z</dcterms:created>
  <dc:creator>administrator</dc:creator>
  <dc:description/>
  <dc:language>en-US</dc:language>
  <cp:lastModifiedBy>administrator</cp:lastModifiedBy>
  <dcterms:modified xsi:type="dcterms:W3CDTF">2010-08-20T09:13:06Z</dcterms:modified>
  <cp:revision>7</cp:revision>
  <dc:subject/>
  <dc:title>Slide 1</dc:title>
</cp:coreProperties>
</file>